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352320" y="0"/>
            <a:ext cx="350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534160"/>
            <a:ext cx="2971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EAE-FD7F-49E4-9C35-547D48C3B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tretch/>
        </p:blipFill>
        <p:spPr>
          <a:xfrm>
            <a:off x="6307200" y="86104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F93F-DDB9-4B38-A0C0-E6AD4AEC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035-AA17-4300-A801-03C6037E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D02-1B6D-4238-B1D3-AF2D1FB7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1E6D-EDBB-4EBB-8CD0-81B06F6A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666-EB28-46E5-B6B6-33DD93BD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7A9-FA1A-49D2-BB88-EE9D5D2E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E15-091A-4A60-9380-2F6E441E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5E8-6564-481E-B7DB-C98881F8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321-FFAD-4CAF-AB71-FBF1C1A6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112-4331-43ED-AA2B-145B591E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0DC-4B65-443D-A2B3-07B8A288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4DC9-2D0C-46F5-82CC-70F5FD15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3983-C820-4EF3-B57D-A5119352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986-264B-4A2D-8AFB-325E5906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2132-A211-4E96-9BE8-D65C54A5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3C3-E0B1-4985-8F68-871B3EB5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341-91FE-4F83-9918-9E9F0E3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832-18C9-4874-89D4-0A13DA31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06E-BBE3-4659-BD9F-172740FB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F5BE-18C4-4ECB-90E1-A95EF306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206D-0C3C-4F0A-AD86-50FB55DE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39CA-1425-48DE-A6AA-B9B0E943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7D89-A77E-40EA-A301-7DBF2A7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305-9836-4BB2-8839-9E183AB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BF1B-6249-4E1F-89B4-AC93A47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1244-00D9-424A-9C14-73672E6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E37-6BA3-4946-9B77-84FF439E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556-EC96-4BC5-8F4C-EFDDF80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605-1607-4293-9E75-A5751FE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1C8-479B-4174-8CDE-FAEDC43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9282-9A55-4506-A255-A943D9A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6AD-AF89-4B76-826B-FB1CE552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656-2DA9-45FC-9490-43F79C9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A70-A3A5-46BF-B2FD-DB32F78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8F7-3EED-417D-9FEE-4B1C3CDD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48C-D40E-45F6-B656-AF9B7BF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54B-0957-4119-8E98-AB6900A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27E-7328-477A-A90D-49A3B78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34E-9189-4492-BE0A-5F3221A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813D-F0AA-4FF1-923F-A7E6D1D1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E7E-D1AD-457D-9C25-E6D2BD1A97E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69840" y="97956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PLTW_MT_L_3Crgb.jpg"/>
          <p:cNvPicPr/>
          <p:nvPr/>
        </p:nvPicPr>
        <p:blipFill>
          <a:blip r:embed="rId1"/>
          <a:stretch/>
        </p:blipFill>
        <p:spPr>
          <a:xfrm>
            <a:off x="946080" y="1828800"/>
            <a:ext cx="7207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sugarcubes"/>
          <p:cNvPicPr/>
          <p:nvPr/>
        </p:nvPicPr>
        <p:blipFill>
          <a:blip r:embed="rId1"/>
          <a:stretch/>
        </p:blipFill>
        <p:spPr>
          <a:xfrm>
            <a:off x="4876920" y="1981080"/>
            <a:ext cx="318744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gar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g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essy gran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uniform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371600" y="914400"/>
            <a:ext cx="50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ntifying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55"/>
          <p:cNvGrpSpPr/>
          <p:nvPr/>
        </p:nvGrpSpPr>
        <p:grpSpPr>
          <a:xfrm>
            <a:off x="762120" y="2544840"/>
            <a:ext cx="7721640" cy="3822840"/>
            <a:chOff x="762120" y="2544840"/>
            <a:chExt cx="7721640" cy="3822840"/>
          </a:xfrm>
        </p:grpSpPr>
        <p:sp>
          <p:nvSpPr>
            <p:cNvPr id="137" name="Text Box 53"/>
            <p:cNvSpPr/>
            <p:nvPr/>
          </p:nvSpPr>
          <p:spPr>
            <a:xfrm>
              <a:off x="762120" y="2544840"/>
              <a:ext cx="3809880" cy="38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usabilit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54"/>
            <p:cNvSpPr/>
            <p:nvPr/>
          </p:nvSpPr>
          <p:spPr>
            <a:xfrm>
              <a:off x="4703760" y="2546280"/>
              <a:ext cx="378000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leanliness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estabilit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371600" y="914400"/>
            <a:ext cx="65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Types of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447840" y="2181240"/>
            <a:ext cx="8503920" cy="4535640"/>
            <a:chOff x="447840" y="2181240"/>
            <a:chExt cx="8503920" cy="4535640"/>
          </a:xfrm>
        </p:grpSpPr>
        <p:sp>
          <p:nvSpPr>
            <p:cNvPr id="141" name="Text Box 8"/>
            <p:cNvSpPr/>
            <p:nvPr/>
          </p:nvSpPr>
          <p:spPr>
            <a:xfrm>
              <a:off x="447840" y="2187720"/>
              <a:ext cx="39924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roduct life spa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time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terial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4379760" y="2181240"/>
              <a:ext cx="45720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ompany standar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apabiliti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1371600" y="914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 a Decision Matri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69960" y="246852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ding scale must be developed to assign values for each criteria categ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504720" y="3838680"/>
            <a:ext cx="8102880" cy="2076480"/>
            <a:chOff x="504720" y="3838680"/>
            <a:chExt cx="8102880" cy="2076480"/>
          </a:xfrm>
        </p:grpSpPr>
        <p:pic>
          <p:nvPicPr>
            <p:cNvPr id="146" name="Picture 11" descr="decisionmatrix"/>
            <p:cNvPicPr/>
            <p:nvPr/>
          </p:nvPicPr>
          <p:blipFill>
            <a:blip r:embed="rId1"/>
            <a:srcRect l="15276" t="83728" r="0" b="0"/>
            <a:stretch/>
          </p:blipFill>
          <p:spPr>
            <a:xfrm>
              <a:off x="504720" y="5037120"/>
              <a:ext cx="8102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/>
            <p:cNvSpPr/>
            <p:nvPr/>
          </p:nvSpPr>
          <p:spPr>
            <a:xfrm>
              <a:off x="1784520" y="4295880"/>
              <a:ext cx="30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Rank Scal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6029280" y="3838680"/>
              <a:ext cx="236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Question Scal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0" descr=""/>
          <p:cNvPicPr/>
          <p:nvPr/>
        </p:nvPicPr>
        <p:blipFill>
          <a:blip r:embed="rId1"/>
          <a:stretch/>
        </p:blipFill>
        <p:spPr>
          <a:xfrm>
            <a:off x="95400" y="2070000"/>
            <a:ext cx="8953200" cy="4541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37160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anking The Alterna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1593720" y="2971800"/>
            <a:ext cx="542880" cy="2930040"/>
            <a:chOff x="1593720" y="2971800"/>
            <a:chExt cx="542880" cy="2930040"/>
          </a:xfrm>
        </p:grpSpPr>
        <p:sp>
          <p:nvSpPr>
            <p:cNvPr id="152" name="Text Box 4"/>
            <p:cNvSpPr/>
            <p:nvPr/>
          </p:nvSpPr>
          <p:spPr>
            <a:xfrm>
              <a:off x="160020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60020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160020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159372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160344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159696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53"/>
          <p:cNvGrpSpPr/>
          <p:nvPr/>
        </p:nvGrpSpPr>
        <p:grpSpPr>
          <a:xfrm>
            <a:off x="2476440" y="2965320"/>
            <a:ext cx="542880" cy="2930040"/>
            <a:chOff x="2476440" y="2965320"/>
            <a:chExt cx="542880" cy="2930040"/>
          </a:xfrm>
        </p:grpSpPr>
        <p:sp>
          <p:nvSpPr>
            <p:cNvPr id="159" name="Text Box 10"/>
            <p:cNvSpPr/>
            <p:nvPr/>
          </p:nvSpPr>
          <p:spPr>
            <a:xfrm>
              <a:off x="2482920" y="296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2482920" y="334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482920" y="3772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2476440" y="438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86160" y="501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47968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54"/>
          <p:cNvGrpSpPr/>
          <p:nvPr/>
        </p:nvGrpSpPr>
        <p:grpSpPr>
          <a:xfrm>
            <a:off x="3470400" y="2975040"/>
            <a:ext cx="542880" cy="2929680"/>
            <a:chOff x="3470400" y="2975040"/>
            <a:chExt cx="542880" cy="2929680"/>
          </a:xfrm>
        </p:grpSpPr>
        <p:sp>
          <p:nvSpPr>
            <p:cNvPr id="166" name="Text Box 16"/>
            <p:cNvSpPr/>
            <p:nvPr/>
          </p:nvSpPr>
          <p:spPr>
            <a:xfrm>
              <a:off x="3476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3476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3476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470400" y="43941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3479760" y="502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3473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55"/>
          <p:cNvGrpSpPr/>
          <p:nvPr/>
        </p:nvGrpSpPr>
        <p:grpSpPr>
          <a:xfrm>
            <a:off x="4543560" y="2968560"/>
            <a:ext cx="542880" cy="2930040"/>
            <a:chOff x="4543560" y="2968560"/>
            <a:chExt cx="542880" cy="2930040"/>
          </a:xfrm>
        </p:grpSpPr>
        <p:sp>
          <p:nvSpPr>
            <p:cNvPr id="173" name="Text Box 22"/>
            <p:cNvSpPr/>
            <p:nvPr/>
          </p:nvSpPr>
          <p:spPr>
            <a:xfrm>
              <a:off x="4549680" y="2968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4549680" y="3349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4549680" y="377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4543560" y="4387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4552920" y="501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4546440" y="5438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56"/>
          <p:cNvGrpSpPr/>
          <p:nvPr/>
        </p:nvGrpSpPr>
        <p:grpSpPr>
          <a:xfrm>
            <a:off x="5632560" y="2978280"/>
            <a:ext cx="542880" cy="2929680"/>
            <a:chOff x="5632560" y="2978280"/>
            <a:chExt cx="542880" cy="2929680"/>
          </a:xfrm>
        </p:grpSpPr>
        <p:sp>
          <p:nvSpPr>
            <p:cNvPr id="180" name="Text Box 28"/>
            <p:cNvSpPr/>
            <p:nvPr/>
          </p:nvSpPr>
          <p:spPr>
            <a:xfrm>
              <a:off x="5638680" y="297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Text Box 29"/>
            <p:cNvSpPr/>
            <p:nvPr/>
          </p:nvSpPr>
          <p:spPr>
            <a:xfrm>
              <a:off x="5638680" y="3359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30"/>
            <p:cNvSpPr/>
            <p:nvPr/>
          </p:nvSpPr>
          <p:spPr>
            <a:xfrm>
              <a:off x="5638680" y="3784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31"/>
            <p:cNvSpPr/>
            <p:nvPr/>
          </p:nvSpPr>
          <p:spPr>
            <a:xfrm>
              <a:off x="5632560" y="439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5641920" y="5025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5635800" y="54482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" name="Group 57"/>
          <p:cNvGrpSpPr/>
          <p:nvPr/>
        </p:nvGrpSpPr>
        <p:grpSpPr>
          <a:xfrm>
            <a:off x="6642000" y="2971800"/>
            <a:ext cx="542880" cy="2930040"/>
            <a:chOff x="6642000" y="2971800"/>
            <a:chExt cx="542880" cy="2930040"/>
          </a:xfrm>
        </p:grpSpPr>
        <p:sp>
          <p:nvSpPr>
            <p:cNvPr id="187" name="Text Box 34"/>
            <p:cNvSpPr/>
            <p:nvPr/>
          </p:nvSpPr>
          <p:spPr>
            <a:xfrm>
              <a:off x="66484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664848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664848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37"/>
            <p:cNvSpPr/>
            <p:nvPr/>
          </p:nvSpPr>
          <p:spPr>
            <a:xfrm>
              <a:off x="664200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38"/>
            <p:cNvSpPr/>
            <p:nvPr/>
          </p:nvSpPr>
          <p:spPr>
            <a:xfrm>
              <a:off x="665172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39"/>
            <p:cNvSpPr/>
            <p:nvPr/>
          </p:nvSpPr>
          <p:spPr>
            <a:xfrm>
              <a:off x="664524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58"/>
          <p:cNvGrpSpPr/>
          <p:nvPr/>
        </p:nvGrpSpPr>
        <p:grpSpPr>
          <a:xfrm>
            <a:off x="7620120" y="2965320"/>
            <a:ext cx="542880" cy="2930040"/>
            <a:chOff x="7620120" y="2965320"/>
            <a:chExt cx="542880" cy="2930040"/>
          </a:xfrm>
        </p:grpSpPr>
        <p:sp>
          <p:nvSpPr>
            <p:cNvPr id="194" name="Text Box 40"/>
            <p:cNvSpPr/>
            <p:nvPr/>
          </p:nvSpPr>
          <p:spPr>
            <a:xfrm>
              <a:off x="7626240" y="296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41"/>
            <p:cNvSpPr/>
            <p:nvPr/>
          </p:nvSpPr>
          <p:spPr>
            <a:xfrm>
              <a:off x="7626240" y="3346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42"/>
            <p:cNvSpPr/>
            <p:nvPr/>
          </p:nvSpPr>
          <p:spPr>
            <a:xfrm>
              <a:off x="7626240" y="3772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43"/>
            <p:cNvSpPr/>
            <p:nvPr/>
          </p:nvSpPr>
          <p:spPr>
            <a:xfrm>
              <a:off x="7620120" y="4384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44"/>
            <p:cNvSpPr/>
            <p:nvPr/>
          </p:nvSpPr>
          <p:spPr>
            <a:xfrm>
              <a:off x="7629480" y="5013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45"/>
            <p:cNvSpPr/>
            <p:nvPr/>
          </p:nvSpPr>
          <p:spPr>
            <a:xfrm>
              <a:off x="762300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Group 59"/>
          <p:cNvGrpSpPr/>
          <p:nvPr/>
        </p:nvGrpSpPr>
        <p:grpSpPr>
          <a:xfrm>
            <a:off x="8312040" y="2975040"/>
            <a:ext cx="542880" cy="2929680"/>
            <a:chOff x="8312040" y="2975040"/>
            <a:chExt cx="542880" cy="2929680"/>
          </a:xfrm>
        </p:grpSpPr>
        <p:sp>
          <p:nvSpPr>
            <p:cNvPr id="201" name="Text Box 46"/>
            <p:cNvSpPr/>
            <p:nvPr/>
          </p:nvSpPr>
          <p:spPr>
            <a:xfrm>
              <a:off x="8318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47"/>
            <p:cNvSpPr/>
            <p:nvPr/>
          </p:nvSpPr>
          <p:spPr>
            <a:xfrm>
              <a:off x="8318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Text Box 48"/>
            <p:cNvSpPr/>
            <p:nvPr/>
          </p:nvSpPr>
          <p:spPr>
            <a:xfrm>
              <a:off x="8318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49"/>
            <p:cNvSpPr/>
            <p:nvPr/>
          </p:nvSpPr>
          <p:spPr>
            <a:xfrm>
              <a:off x="8312040" y="4394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50"/>
            <p:cNvSpPr/>
            <p:nvPr/>
          </p:nvSpPr>
          <p:spPr>
            <a:xfrm>
              <a:off x="8321760" y="502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Text Box 51"/>
            <p:cNvSpPr/>
            <p:nvPr/>
          </p:nvSpPr>
          <p:spPr>
            <a:xfrm>
              <a:off x="8315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lasticcubes"/>
          <p:cNvPicPr/>
          <p:nvPr/>
        </p:nvPicPr>
        <p:blipFill>
          <a:blip r:embed="rId1"/>
          <a:stretch/>
        </p:blipFill>
        <p:spPr>
          <a:xfrm>
            <a:off x="5648400" y="1828800"/>
            <a:ext cx="3051000" cy="4952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33520" y="2255760"/>
            <a:ext cx="5165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decisions should be based on analysis and logic; not personal opin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sign tool that may be used multiple times throughout a desig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24080" y="1057320"/>
            <a:ext cx="74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Right Decision: Idea 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Decision Making Matrix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66680" y="29718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king a Close Look at Preliminary Idea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371600" y="914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 a Decision Matri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78000" y="2222640"/>
            <a:ext cx="3582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used to compare design solutions against one another, using specific criteria that are often based on project requiremen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decisionmatrix"/>
          <p:cNvPicPr/>
          <p:nvPr/>
        </p:nvPicPr>
        <p:blipFill>
          <a:blip r:embed="rId1"/>
          <a:stretch/>
        </p:blipFill>
        <p:spPr>
          <a:xfrm>
            <a:off x="3921120" y="2678040"/>
            <a:ext cx="5006880" cy="2824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mockups1"/>
          <p:cNvPicPr/>
          <p:nvPr/>
        </p:nvPicPr>
        <p:blipFill>
          <a:blip r:embed="rId1"/>
          <a:stretch/>
        </p:blipFill>
        <p:spPr>
          <a:xfrm>
            <a:off x="3581280" y="2286000"/>
            <a:ext cx="5483520" cy="411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1324080" y="1057320"/>
            <a:ext cx="775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Identifying Ideas or Alternativ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33520" y="2666880"/>
            <a:ext cx="304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erial would be best for creating models of puzzle pie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lay"/>
          <p:cNvPicPr/>
          <p:nvPr/>
        </p:nvPicPr>
        <p:blipFill>
          <a:blip r:embed="rId1"/>
          <a:stretch/>
        </p:blipFill>
        <p:spPr>
          <a:xfrm>
            <a:off x="4883040" y="1905120"/>
            <a:ext cx="3392640" cy="4647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33520" y="2438280"/>
            <a:ext cx="45720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deling Cl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f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3520" y="2438280"/>
            <a:ext cx="48006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ramel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ha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6" descr="caramel"/>
          <p:cNvPicPr/>
          <p:nvPr/>
        </p:nvPicPr>
        <p:blipFill>
          <a:blip r:embed="rId1"/>
          <a:stretch/>
        </p:blipFill>
        <p:spPr>
          <a:xfrm>
            <a:off x="5029200" y="1905120"/>
            <a:ext cx="31082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dice"/>
          <p:cNvPicPr/>
          <p:nvPr/>
        </p:nvPicPr>
        <p:blipFill>
          <a:blip r:embed="rId1"/>
          <a:stretch/>
        </p:blipFill>
        <p:spPr>
          <a:xfrm>
            <a:off x="4824360" y="1905120"/>
            <a:ext cx="326232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2-sided 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ly 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lasticcubes"/>
          <p:cNvPicPr/>
          <p:nvPr/>
        </p:nvPicPr>
        <p:blipFill>
          <a:blip r:embed="rId1"/>
          <a:stretch/>
        </p:blipFill>
        <p:spPr>
          <a:xfrm>
            <a:off x="5029200" y="1828800"/>
            <a:ext cx="305100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entimeter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oamcubes"/>
          <p:cNvPicPr/>
          <p:nvPr/>
        </p:nvPicPr>
        <p:blipFill>
          <a:blip r:embed="rId1"/>
          <a:stretch/>
        </p:blipFill>
        <p:spPr>
          <a:xfrm>
            <a:off x="5016600" y="1905120"/>
            <a:ext cx="299376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am Block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2-sided 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part eas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5T17:47:48Z</dcterms:created>
  <dc:creator>Todd Dischinger and Brett Handley</dc:creator>
  <dc:description/>
  <cp:keywords>decision matrix</cp:keywords>
  <dc:language>en-US</dc:language>
  <cp:lastModifiedBy>Katie Donnan</cp:lastModifiedBy>
  <dcterms:modified xsi:type="dcterms:W3CDTF">2009-12-16T18:22:33Z</dcterms:modified>
  <cp:revision>53</cp:revision>
  <dc:subject>IED - Unit 2 - Lesson 2.4 Advanced Designs</dc:subject>
  <dc:title>Decision Making Matrix</dc:title>
</cp:coreProperties>
</file>